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2148-6C72-481A-BC86-2BBC765DDD0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87EFF-0712-4102-B2DC-6BE848D960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8273-67F7-418E-B908-B09FCE1DA7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6117-6F29-4EE3-8234-ED5CC22EF8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40865-8B4B-4FED-9363-5BD58D9BA8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ED745-F190-4191-AF6F-A16D681E48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7933F-E80B-4575-9B00-43E71779B3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EB9D-1F24-46C5-8468-EF7E25B5F2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7DC2B-6591-4BE3-9650-E233F266B7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C2F2-0842-4A5C-B9B2-3E31CAF0F6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E1B7-5CDC-4C5A-A005-D78AE149FF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26D77-EECA-4E6B-83E2-53E32027C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3AC26-B3FB-4E90-B398-84F226959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1E7EA3-BB33-41D8-B8D3-1E46C6BBA0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B0CE16-D7D4-4A1E-9971-B35AF91892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9D96C9-87B6-4737-9AB8-02425E2000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7333A9-CB32-4B16-B329-0C2081BFF1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DC26C9-D259-44C0-94D5-07AFFA783B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8501F4-A68F-4034-A82A-E5B17F4D29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64FA0F-F8C6-498B-A6DE-D32C36D44D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3C7D6B-DA34-4A99-8D75-3D1B78D1CD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831516-A770-4CB2-AB59-2B262D57BF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7CFBD-261A-4825-B68E-D51900AD9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404C3-8BFA-4615-99C5-6510D5511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F74309-5548-4E7C-9C8D-F6CB72C54D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B25FA-72FF-47D7-829C-295AAC401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C01F5-D1CF-4D1D-8B75-79FA76F92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26A95-6423-4B77-A219-445F22A7E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9B6ED-FA82-4A83-82A5-B75133A06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0225A-01B7-42A0-9B1C-1DBB9BD95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3A8AA-DCE6-46E2-A7F2-1388796DC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0F3D4-0D98-4EDB-9074-9A12A647C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AA818-F9D8-4D49-97B4-B5EC2D6E2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B07A7-EAEC-40C6-B4FC-F9A9CCA48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C495A-4EAF-4311-B5DD-9491D3871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B6EBDB-55CC-4F6B-9FAE-335D58C6E5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A8A35A-2F4C-475B-A998-231CEA4C3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F9D8F2-E310-43D7-8827-EFFEB51C51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F7DC1C-43BD-45A6-9E6E-A67FF17CA6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3394E3-C1BA-4635-9FC5-AE390BEB99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0EAD9E-B900-405A-ABB0-02521A12EE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2A0A11-6E15-4E8F-88D7-3FD140ADFA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25CD3-9CB9-4A43-BF9F-809E488E2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88367E-5E34-44BF-A9BF-6024223AAF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940D22-4C66-46D9-B5AD-5978264DB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B80BD9-1D98-4365-8A49-B23DAF34C0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AD2DB9-4FFE-48A6-8811-895A6B62EC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D4D4DE-6C40-4FF0-B51A-CD7326C793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EE6C5F-CBE4-4B6C-BED5-89E00E1775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AAC013-7DE3-464E-AB03-783DC2DF9C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8C25C2-BC42-4C2D-BFFC-151F0E5A81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86CB12-2FEF-406E-BDC6-F08C0231C0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230BD6-10F5-4083-B056-CAAE0D59C7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1F441-3195-4778-BA1A-7DD9988A1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199DC7-E58F-4492-AE9F-F705685021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756646-2670-4F16-88B7-CF4665CE32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112C39-FB70-45EA-A5C1-413C6FD9F9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597D8E-7741-4F88-928D-441007299D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D0EE5-5763-404A-9322-B21086BD57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913710-80B3-4544-959C-F303EB1509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20CF9C-DF0E-4F34-B906-3094E6E97D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4BF111-EAF8-406F-B02D-AD39A7D538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9B9681-6D8D-46D1-B7EE-3D2D8B7400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589F8C-932D-4E26-83C7-F63283C33D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C3D66-95B7-4F98-A212-99B6B60C2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D827FA-E55E-465A-B2D1-DF1D053033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AD77C4-B700-42BB-801C-51F1CF84D4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1A001B-AC60-4FCA-B57E-E506BC0B61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7D073E-7ADD-44D9-822A-C988DA4D7A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034BF3-85D5-42FF-A8B3-CF946D92B9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CE4E38-F2E3-4CDD-A15D-FC98D91BCF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D30825-A557-4473-B9D2-9F9EDB383D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C95B46-06C2-479B-B819-4DA268F760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1A53F5-6F84-432E-94C9-18B1358C94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4C3BC1-A03A-4CF2-B637-4C1A232809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F6CAB-4744-4C76-9F67-5EA4E0388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BC5CF3-F3B8-427D-A919-C22A4B96A3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0184DF-334E-4AA2-9ADD-693A6851CB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D8D869-4058-464F-9BFC-7AA6E3D87F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E25F79-C049-46F3-A947-1A3F4782D9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A2E730-4BE4-454E-BCCC-1EBCBCDD32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BB9CAE-9F34-4B86-A995-75C875CC55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4B8E3E-A941-4009-A740-9B4B156F97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1EAE2B-A7DE-487B-B4D2-AE60C6B00A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F33C40-B289-451C-BFF0-822ADB1D8E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C27A49-CAC5-411D-BE75-B35B148D6C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8C7E4-5C0E-4AF7-A2A2-FE8FD177C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41B87D-AD0E-43E2-BD53-6381BEBEFB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DC42D8-A1D3-4BC2-AA9B-EDFC7C8608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C44515-8870-4808-8405-D45260A777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83E8C9-12CD-472E-A1A4-9384FE622F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45CBA5-D9FB-485B-950B-A98B8F9260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F24A80-1AE2-4516-A786-391050DEB0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658C03-B805-424C-9668-A9188A18DB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985A1C-3A03-456D-A053-8ED4D04F99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57ACC9-845C-49E9-B947-A739834BA6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2C711B-71CC-48BF-8572-33CF6B60B5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47CB2-9ADA-401F-BCC3-AE99BD920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341681-B827-4F00-BFDF-BA7FE5B3F6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F7760B-19D1-4315-AE3E-6A482A837C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1021B9-433F-4C54-AE04-B90EEC45F6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368908-DA6E-47A1-9B82-B324DF4BAB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DC9545-5702-4592-9DF4-4BE4AC89D1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2CBBB8-2856-4AEF-A43B-B05835F0C9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4769F9-BB3E-45EF-AB51-9D098341EE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DEBB30-BA12-4702-9130-16EDE647D0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D5CE4E-0370-4888-8EB8-0BA41E5D30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1B591E-9C4D-4C8C-8566-A98B28F9A0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5071A-0CA1-4ABA-A532-DA6ECC35B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3E5539-4DA4-413E-BF40-3FDE26FB47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EC9F29-0B67-4613-B332-87F84816F4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EB11ED-B36F-48EF-876C-02852E37FA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090587-618D-439E-A0B0-A18C5DE1A7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8C5F74-35A2-4E79-B75F-A2A159CFC4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14433A-305E-425A-9196-C0D11B8A08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61250E-F0E6-4490-99CC-7ED59F34F2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497C51-F89F-4267-82CC-7F6FAAEB7B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0ED50F-3772-4E47-91F6-2BA8086738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E5F08E-0CEF-474B-BABD-3DE071F46FA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EEB9C-22A3-4134-BD5A-736F9A77481E}"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6A007-6D37-47D1-AD76-1EB3254DA454}"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DE58-2F03-44E4-953E-5A1B5BFEEB15}"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286D-26D8-462D-B88C-D37F6DDF944C}" type="slidenum">
              <a:rPr b="0" lang="en-U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A633-9DF1-46CA-A49A-E2AD2110A418}"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333C2-1B6B-4ABF-B753-AA66540A4E7B}"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C17A-B3DE-4FE0-A540-76557A588C7F}"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CF019-3C5B-40C0-9174-24F46B96BA73}"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D5677-7020-458B-A421-FF19B4F8861B}"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en.wikipedia.org/wiki/Convicts_in_Australia" TargetMode="External"/><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182520" y="4761000"/>
            <a:ext cx="8663040" cy="1689120"/>
          </a:xfrm>
          <a:prstGeom prst="rect">
            <a:avLst/>
          </a:prstGeom>
          <a:ln w="0">
            <a:noFill/>
          </a:ln>
        </p:spPr>
      </p:pic>
      <p:sp>
        <p:nvSpPr>
          <p:cNvPr id="407"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Franklin Gothic Book"/>
              </a:rPr>
              <a:t>By: Kent Grimes</a:t>
            </a:r>
            <a:endParaRPr b="0" lang="en-US" sz="2400" spc="-1" strike="noStrike">
              <a:solidFill>
                <a:srgbClr val="4e3b30"/>
              </a:solidFill>
              <a:latin typeface="Franklin Gothic Book"/>
            </a:endParaRPr>
          </a:p>
        </p:txBody>
      </p:sp>
      <p:pic>
        <p:nvPicPr>
          <p:cNvPr id="408" name="Picture 5" descr="http://upload.wikimedia.org/wikipedia/commons/archive/b/b4/20070311100827!A_large_blank_world_map_with_oceans_marked_in_blue.gif"/>
          <p:cNvPicPr/>
          <p:nvPr/>
        </p:nvPicPr>
        <p:blipFill>
          <a:blip r:embed="rId2"/>
          <a:stretch/>
        </p:blipFill>
        <p:spPr>
          <a:xfrm>
            <a:off x="2057400" y="801720"/>
            <a:ext cx="5886360" cy="2921040"/>
          </a:xfrm>
          <a:prstGeom prst="rect">
            <a:avLst/>
          </a:prstGeom>
          <a:ln w="0">
            <a:noFill/>
          </a:ln>
        </p:spPr>
      </p:pic>
      <p:sp>
        <p:nvSpPr>
          <p:cNvPr id="409" name="Freeform 7"/>
          <p:cNvSpPr/>
          <p:nvPr/>
        </p:nvSpPr>
        <p:spPr>
          <a:xfrm>
            <a:off x="3879720" y="1638360"/>
            <a:ext cx="2749680" cy="1690560"/>
          </a:xfrm>
          <a:custGeom>
            <a:avLst/>
            <a:gdLst/>
            <a:ahLst/>
            <a:rect l="l" t="t" r="r" b="b"/>
            <a:pathLst>
              <a:path w="2749550" h="1691217">
                <a:moveTo>
                  <a:pt x="552450" y="0"/>
                </a:moveTo>
                <a:cubicBezTo>
                  <a:pt x="295275" y="127000"/>
                  <a:pt x="38100" y="254000"/>
                  <a:pt x="19050" y="393700"/>
                </a:cubicBezTo>
                <a:cubicBezTo>
                  <a:pt x="0" y="533400"/>
                  <a:pt x="319617" y="702733"/>
                  <a:pt x="438150" y="838200"/>
                </a:cubicBezTo>
                <a:cubicBezTo>
                  <a:pt x="556683" y="973667"/>
                  <a:pt x="670983" y="1075267"/>
                  <a:pt x="730250" y="1206500"/>
                </a:cubicBezTo>
                <a:cubicBezTo>
                  <a:pt x="789517" y="1337733"/>
                  <a:pt x="698500" y="1559983"/>
                  <a:pt x="793750" y="1625600"/>
                </a:cubicBezTo>
                <a:cubicBezTo>
                  <a:pt x="889000" y="1691217"/>
                  <a:pt x="1140883" y="1678517"/>
                  <a:pt x="1301750" y="1600200"/>
                </a:cubicBezTo>
                <a:cubicBezTo>
                  <a:pt x="1462617" y="1521883"/>
                  <a:pt x="1572683" y="1236133"/>
                  <a:pt x="1758950" y="1155700"/>
                </a:cubicBezTo>
                <a:cubicBezTo>
                  <a:pt x="1945217" y="1075267"/>
                  <a:pt x="2254250" y="1102783"/>
                  <a:pt x="2419350" y="1117600"/>
                </a:cubicBezTo>
                <a:cubicBezTo>
                  <a:pt x="2584450" y="1132417"/>
                  <a:pt x="2749550" y="1244600"/>
                  <a:pt x="2749550" y="1244600"/>
                </a:cubicBezTo>
                <a:lnTo>
                  <a:pt x="2749550" y="1244600"/>
                </a:lnTo>
              </a:path>
            </a:pathLst>
          </a:custGeom>
          <a:noFill/>
          <a:ln w="25560">
            <a:solidFill>
              <a:srgbClr val="000000"/>
            </a:solidFill>
            <a:round/>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103320" y="450720"/>
            <a:ext cx="8894520" cy="1152720"/>
          </a:xfrm>
          <a:prstGeom prst="rect">
            <a:avLst/>
          </a:prstGeom>
          <a:ln w="0">
            <a:noFill/>
          </a:ln>
        </p:spPr>
      </p:pic>
      <p:sp>
        <p:nvSpPr>
          <p:cNvPr id="451" name=""/>
          <p:cNvSpPr txBox="1"/>
          <p:nvPr/>
        </p:nvSpPr>
        <p:spPr>
          <a:xfrm>
            <a:off x="304920" y="1554120"/>
            <a:ext cx="8686800" cy="4525920"/>
          </a:xfrm>
          <a:prstGeom prst="rect">
            <a:avLst/>
          </a:prstGeom>
          <a:noFill/>
          <a:ln w="0">
            <a:noFill/>
          </a:ln>
        </p:spPr>
        <p:txBody>
          <a:bodyPr anchor="t">
            <a:normAutofit/>
          </a:bodyPr>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d1f1f"/>
                </a:solidFill>
                <a:uFillTx/>
                <a:latin typeface="Franklin Gothic Book"/>
                <a:hlinkClick r:id="rId2"/>
              </a:rPr>
              <a:t>http://en.wikipedia.org/wiki/Convicts_in_Australia</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http://members.iinet.net.au/~perthdps/convicts/res-03.html</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http://australian-history.suite101.com/article.cfm/convict_transportation</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http://www.genealogytoday.com/au/articles/convict_research.html</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http://www.convictcreations.com/history/crimes.htm</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http://www.cultureandrecreation.gov.au/articles/convicts/</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452" name="TextBox 3"/>
          <p:cNvSpPr/>
          <p:nvPr/>
        </p:nvSpPr>
        <p:spPr>
          <a:xfrm>
            <a:off x="0" y="160020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453" name="TextBox 4"/>
          <p:cNvSpPr/>
          <p:nvPr/>
        </p:nvSpPr>
        <p:spPr>
          <a:xfrm>
            <a:off x="3240" y="19810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454" name="TextBox 5"/>
          <p:cNvSpPr/>
          <p:nvPr/>
        </p:nvSpPr>
        <p:spPr>
          <a:xfrm>
            <a:off x="3240" y="236232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455" name="TextBox 6"/>
          <p:cNvSpPr/>
          <p:nvPr/>
        </p:nvSpPr>
        <p:spPr>
          <a:xfrm>
            <a:off x="3240" y="274320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456" name="TextBox 7"/>
          <p:cNvSpPr/>
          <p:nvPr/>
        </p:nvSpPr>
        <p:spPr>
          <a:xfrm>
            <a:off x="3240" y="304812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457" name="TextBox 8"/>
          <p:cNvSpPr/>
          <p:nvPr/>
        </p:nvSpPr>
        <p:spPr>
          <a:xfrm>
            <a:off x="3240" y="342900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1" descr=""/>
          <p:cNvPicPr/>
          <p:nvPr/>
        </p:nvPicPr>
        <p:blipFill>
          <a:blip r:embed="rId1"/>
          <a:stretch/>
        </p:blipFill>
        <p:spPr>
          <a:xfrm>
            <a:off x="103320" y="450720"/>
            <a:ext cx="8894520" cy="1152720"/>
          </a:xfrm>
          <a:prstGeom prst="rect">
            <a:avLst/>
          </a:prstGeom>
          <a:ln w="0">
            <a:noFill/>
          </a:ln>
        </p:spPr>
      </p:pic>
      <p:sp>
        <p:nvSpPr>
          <p:cNvPr id="41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As the years progressed the settlers in the Americas became angry with their government and their treatment. This was a major affect on the British penitential system. Now that the convicts could not be sent to America, the prisons and hulks (a boat left over from the Napoleonic Wars) in Britain were coming to their maximum capacity.</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Title 1" descr=""/>
          <p:cNvPicPr/>
          <p:nvPr/>
        </p:nvPicPr>
        <p:blipFill>
          <a:blip r:embed="rId1"/>
          <a:stretch/>
        </p:blipFill>
        <p:spPr>
          <a:xfrm>
            <a:off x="103320" y="450720"/>
            <a:ext cx="8894520" cy="1152720"/>
          </a:xfrm>
          <a:prstGeom prst="rect">
            <a:avLst/>
          </a:prstGeom>
          <a:ln w="0">
            <a:noFill/>
          </a:ln>
        </p:spPr>
      </p:pic>
      <p:sp>
        <p:nvSpPr>
          <p:cNvPr id="41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James Cook’s expedition to the south pacific in 1770 was when he discovered this great landmass that he named Australia. Cook declared the land for England. When the pressure for an area to send their criminals became to great, King George III proclaimed half of Australia as New South Wales.</a:t>
            </a:r>
            <a:endParaRPr b="0" lang="en-US" sz="3200" spc="-1" strike="noStrike">
              <a:solidFill>
                <a:srgbClr val="4e3b30"/>
              </a:solidFill>
              <a:latin typeface="Franklin Gothic Book"/>
            </a:endParaRPr>
          </a:p>
        </p:txBody>
      </p:sp>
      <p:pic>
        <p:nvPicPr>
          <p:cNvPr id="414" name="Picture 5" descr="http://members.iinet.net.au/~perthdps/convicts/ausnsw.gif"/>
          <p:cNvPicPr/>
          <p:nvPr/>
        </p:nvPicPr>
        <p:blipFill>
          <a:blip r:embed="rId2"/>
          <a:stretch/>
        </p:blipFill>
        <p:spPr>
          <a:xfrm>
            <a:off x="5715000" y="380880"/>
            <a:ext cx="1371600" cy="1262160"/>
          </a:xfrm>
          <a:prstGeom prst="rect">
            <a:avLst/>
          </a:prstGeom>
          <a:ln w="0">
            <a:noFill/>
          </a:ln>
        </p:spPr>
      </p:pic>
      <p:sp>
        <p:nvSpPr>
          <p:cNvPr id="415" name="TextBox 4"/>
          <p:cNvSpPr/>
          <p:nvPr/>
        </p:nvSpPr>
        <p:spPr>
          <a:xfrm>
            <a:off x="7467480" y="0"/>
            <a:ext cx="12193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w South Wales</a:t>
            </a:r>
            <a:endParaRPr b="0" lang="en-US" sz="1100" spc="-1" strike="noStrike">
              <a:solidFill>
                <a:srgbClr val="000000"/>
              </a:solidFill>
              <a:latin typeface="Arial"/>
            </a:endParaRPr>
          </a:p>
        </p:txBody>
      </p:sp>
      <p:cxnSp>
        <p:nvCxnSpPr>
          <p:cNvPr id="416" name="Straight Arrow Connector 6"/>
          <p:cNvCxnSpPr/>
          <p:nvPr/>
        </p:nvCxnSpPr>
        <p:spPr>
          <a:xfrm flipH="1">
            <a:off x="6933600" y="379800"/>
            <a:ext cx="533880" cy="3819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103320" y="450720"/>
            <a:ext cx="8894520" cy="1152720"/>
          </a:xfrm>
          <a:prstGeom prst="rect">
            <a:avLst/>
          </a:prstGeom>
          <a:ln w="0">
            <a:noFill/>
          </a:ln>
        </p:spPr>
      </p:pic>
      <p:sp>
        <p:nvSpPr>
          <p:cNvPr id="418"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first settlement was established in 1804. With 260 people that included 178 convicts. From 1812 to 1853 ships were sent directly from England to the colony. The colony was originally named Van Diemen’s Land. About 67,000 convicts were transported to Tasmania.</a:t>
            </a:r>
            <a:endParaRPr b="0" lang="en-US" sz="3200" spc="-1" strike="noStrike">
              <a:solidFill>
                <a:srgbClr val="4e3b30"/>
              </a:solidFill>
              <a:latin typeface="Franklin Gothic Book"/>
            </a:endParaRPr>
          </a:p>
        </p:txBody>
      </p:sp>
      <p:pic>
        <p:nvPicPr>
          <p:cNvPr id="419" name="Picture 5" descr="http://members.iinet.net.au/~perthdps/convicts/austas.gif"/>
          <p:cNvPicPr/>
          <p:nvPr/>
        </p:nvPicPr>
        <p:blipFill>
          <a:blip r:embed="rId2"/>
          <a:stretch/>
        </p:blipFill>
        <p:spPr>
          <a:xfrm>
            <a:off x="4876920" y="152280"/>
            <a:ext cx="1447560" cy="1332000"/>
          </a:xfrm>
          <a:prstGeom prst="rect">
            <a:avLst/>
          </a:prstGeom>
          <a:ln w="0">
            <a:noFill/>
          </a:ln>
        </p:spPr>
      </p:pic>
      <p:sp>
        <p:nvSpPr>
          <p:cNvPr id="420" name="TextBox 4"/>
          <p:cNvSpPr/>
          <p:nvPr/>
        </p:nvSpPr>
        <p:spPr>
          <a:xfrm>
            <a:off x="6939000" y="228600"/>
            <a:ext cx="794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smania</a:t>
            </a:r>
            <a:endParaRPr b="0" lang="en-US" sz="1100" spc="-1" strike="noStrike">
              <a:solidFill>
                <a:srgbClr val="000000"/>
              </a:solidFill>
              <a:latin typeface="Arial"/>
            </a:endParaRPr>
          </a:p>
        </p:txBody>
      </p:sp>
      <p:cxnSp>
        <p:nvCxnSpPr>
          <p:cNvPr id="421" name="Straight Arrow Connector 5"/>
          <p:cNvCxnSpPr/>
          <p:nvPr/>
        </p:nvCxnSpPr>
        <p:spPr>
          <a:xfrm flipH="1">
            <a:off x="6095520" y="457200"/>
            <a:ext cx="915120" cy="91512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103320" y="450720"/>
            <a:ext cx="8894520" cy="1152720"/>
          </a:xfrm>
          <a:prstGeom prst="rect">
            <a:avLst/>
          </a:prstGeom>
          <a:ln w="0">
            <a:noFill/>
          </a:ln>
        </p:spPr>
      </p:pic>
      <p:sp>
        <p:nvSpPr>
          <p:cNvPr id="42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s colony was first established to deter the French presence in the area. In 1849 the colony was proclaimed a penal colony of England. In 1868 the last ship carrying the last 260 convicts arrived.</a:t>
            </a:r>
            <a:endParaRPr b="0" lang="en-US" sz="3200" spc="-1" strike="noStrike">
              <a:solidFill>
                <a:srgbClr val="4e3b30"/>
              </a:solidFill>
              <a:latin typeface="Franklin Gothic Book"/>
            </a:endParaRPr>
          </a:p>
        </p:txBody>
      </p:sp>
      <p:pic>
        <p:nvPicPr>
          <p:cNvPr id="424" name="Picture 2" descr="http://members.iinet.net.au/~perthdps/convicts/auswa.gif"/>
          <p:cNvPicPr/>
          <p:nvPr/>
        </p:nvPicPr>
        <p:blipFill>
          <a:blip r:embed="rId2"/>
          <a:stretch/>
        </p:blipFill>
        <p:spPr>
          <a:xfrm>
            <a:off x="5410080" y="228600"/>
            <a:ext cx="1447920" cy="1332000"/>
          </a:xfrm>
          <a:prstGeom prst="rect">
            <a:avLst/>
          </a:prstGeom>
          <a:ln w="0">
            <a:noFill/>
          </a:ln>
        </p:spPr>
      </p:pic>
      <p:sp>
        <p:nvSpPr>
          <p:cNvPr id="425" name="TextBox 4"/>
          <p:cNvSpPr/>
          <p:nvPr/>
        </p:nvSpPr>
        <p:spPr>
          <a:xfrm>
            <a:off x="4119840" y="0"/>
            <a:ext cx="12870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stern Australia</a:t>
            </a:r>
            <a:endParaRPr b="0" lang="en-US" sz="1100" spc="-1" strike="noStrike">
              <a:solidFill>
                <a:srgbClr val="000000"/>
              </a:solidFill>
              <a:latin typeface="Arial"/>
            </a:endParaRPr>
          </a:p>
        </p:txBody>
      </p:sp>
      <p:cxnSp>
        <p:nvCxnSpPr>
          <p:cNvPr id="426" name="Straight Arrow Connector 5"/>
          <p:cNvCxnSpPr/>
          <p:nvPr/>
        </p:nvCxnSpPr>
        <p:spPr>
          <a:xfrm>
            <a:off x="5029200" y="228600"/>
            <a:ext cx="534240" cy="5342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Title 1" descr=""/>
          <p:cNvPicPr/>
          <p:nvPr/>
        </p:nvPicPr>
        <p:blipFill>
          <a:blip r:embed="rId1"/>
          <a:stretch/>
        </p:blipFill>
        <p:spPr>
          <a:xfrm>
            <a:off x="103320" y="450720"/>
            <a:ext cx="8894520" cy="1152720"/>
          </a:xfrm>
          <a:prstGeom prst="rect">
            <a:avLst/>
          </a:prstGeom>
          <a:ln w="0">
            <a:noFill/>
          </a:ln>
        </p:spPr>
      </p:pic>
      <p:sp>
        <p:nvSpPr>
          <p:cNvPr id="428"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s colony was created as a crown colony, it was never a penal colony of England. From 1836 – 1850 between 37 and 39 thousand settlers arrived in South Australia.</a:t>
            </a:r>
            <a:endParaRPr b="0" lang="en-US" sz="3200" spc="-1" strike="noStrike">
              <a:solidFill>
                <a:srgbClr val="4e3b30"/>
              </a:solidFill>
              <a:latin typeface="Franklin Gothic Book"/>
            </a:endParaRPr>
          </a:p>
        </p:txBody>
      </p:sp>
      <p:pic>
        <p:nvPicPr>
          <p:cNvPr id="429" name="Picture 2" descr="http://members.iinet.net.au/~perthdps/convicts/aussa.gif"/>
          <p:cNvPicPr/>
          <p:nvPr/>
        </p:nvPicPr>
        <p:blipFill>
          <a:blip r:embed="rId2"/>
          <a:stretch/>
        </p:blipFill>
        <p:spPr>
          <a:xfrm>
            <a:off x="5105520" y="152280"/>
            <a:ext cx="1523880" cy="1401840"/>
          </a:xfrm>
          <a:prstGeom prst="rect">
            <a:avLst/>
          </a:prstGeom>
          <a:ln w="0">
            <a:noFill/>
          </a:ln>
        </p:spPr>
      </p:pic>
      <p:sp>
        <p:nvSpPr>
          <p:cNvPr id="430" name="TextBox 4"/>
          <p:cNvSpPr/>
          <p:nvPr/>
        </p:nvSpPr>
        <p:spPr>
          <a:xfrm>
            <a:off x="6635160" y="304920"/>
            <a:ext cx="1130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th Australia</a:t>
            </a:r>
            <a:endParaRPr b="0" lang="en-US" sz="1100" spc="-1" strike="noStrike">
              <a:solidFill>
                <a:srgbClr val="000000"/>
              </a:solidFill>
              <a:latin typeface="Arial"/>
            </a:endParaRPr>
          </a:p>
        </p:txBody>
      </p:sp>
      <p:cxnSp>
        <p:nvCxnSpPr>
          <p:cNvPr id="431" name="Straight Arrow Connector 5"/>
          <p:cNvCxnSpPr/>
          <p:nvPr/>
        </p:nvCxnSpPr>
        <p:spPr>
          <a:xfrm flipH="1">
            <a:off x="6095520" y="457200"/>
            <a:ext cx="610560" cy="38160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Title 1" descr=""/>
          <p:cNvPicPr/>
          <p:nvPr/>
        </p:nvPicPr>
        <p:blipFill>
          <a:blip r:embed="rId1"/>
          <a:stretch/>
        </p:blipFill>
        <p:spPr>
          <a:xfrm>
            <a:off x="298440" y="450720"/>
            <a:ext cx="8699400" cy="1152720"/>
          </a:xfrm>
          <a:prstGeom prst="rect">
            <a:avLst/>
          </a:prstGeom>
          <a:ln w="0">
            <a:noFill/>
          </a:ln>
        </p:spPr>
      </p:pic>
      <p:sp>
        <p:nvSpPr>
          <p:cNvPr id="43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 1841 New Zealand separated from New South Wales. Victoria was established in 1851, the first immigrants arrived in Port Philip in 1839. The only convicts sent to Victoria from England were the exiles. Other convicts came because of tickets of leave and Conditional pardons.</a:t>
            </a:r>
            <a:endParaRPr b="0" lang="en-US" sz="3200" spc="-1" strike="noStrike">
              <a:solidFill>
                <a:srgbClr val="4e3b30"/>
              </a:solidFill>
              <a:latin typeface="Franklin Gothic Book"/>
            </a:endParaRPr>
          </a:p>
        </p:txBody>
      </p:sp>
      <p:pic>
        <p:nvPicPr>
          <p:cNvPr id="434" name="Picture 2" descr="http://members.iinet.net.au/~perthdps/convicts/nz.gif"/>
          <p:cNvPicPr/>
          <p:nvPr/>
        </p:nvPicPr>
        <p:blipFill>
          <a:blip r:embed="rId2"/>
          <a:stretch/>
        </p:blipFill>
        <p:spPr>
          <a:xfrm>
            <a:off x="192240" y="609480"/>
            <a:ext cx="790560" cy="1067040"/>
          </a:xfrm>
          <a:prstGeom prst="rect">
            <a:avLst/>
          </a:prstGeom>
          <a:ln w="0">
            <a:noFill/>
          </a:ln>
        </p:spPr>
      </p:pic>
      <p:pic>
        <p:nvPicPr>
          <p:cNvPr id="435" name="Picture 4" descr="http://members.iinet.net.au/~perthdps/convicts/ausvic.gif"/>
          <p:cNvPicPr/>
          <p:nvPr/>
        </p:nvPicPr>
        <p:blipFill>
          <a:blip r:embed="rId3"/>
          <a:stretch/>
        </p:blipFill>
        <p:spPr>
          <a:xfrm>
            <a:off x="7391520" y="152280"/>
            <a:ext cx="1600200" cy="1471680"/>
          </a:xfrm>
          <a:prstGeom prst="rect">
            <a:avLst/>
          </a:prstGeom>
          <a:ln w="0">
            <a:noFill/>
          </a:ln>
        </p:spPr>
      </p:pic>
      <p:sp>
        <p:nvSpPr>
          <p:cNvPr id="436" name="TextBox 5"/>
          <p:cNvSpPr/>
          <p:nvPr/>
        </p:nvSpPr>
        <p:spPr>
          <a:xfrm>
            <a:off x="152280" y="228600"/>
            <a:ext cx="129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Zealand</a:t>
            </a:r>
            <a:endParaRPr b="0" lang="en-US" sz="1000" spc="-1" strike="noStrike">
              <a:solidFill>
                <a:srgbClr val="000000"/>
              </a:solidFill>
              <a:latin typeface="Arial"/>
            </a:endParaRPr>
          </a:p>
        </p:txBody>
      </p:sp>
      <p:sp>
        <p:nvSpPr>
          <p:cNvPr id="437" name="TextBox 6"/>
          <p:cNvSpPr/>
          <p:nvPr/>
        </p:nvSpPr>
        <p:spPr>
          <a:xfrm>
            <a:off x="73915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ctoria</a:t>
            </a:r>
            <a:endParaRPr b="0" lang="en-US" sz="1800" spc="-1" strike="noStrike">
              <a:solidFill>
                <a:srgbClr val="000000"/>
              </a:solidFill>
              <a:latin typeface="Arial"/>
            </a:endParaRPr>
          </a:p>
        </p:txBody>
      </p:sp>
      <p:cxnSp>
        <p:nvCxnSpPr>
          <p:cNvPr id="438" name="Straight Arrow Connector 7"/>
          <p:cNvCxnSpPr/>
          <p:nvPr/>
        </p:nvCxnSpPr>
        <p:spPr>
          <a:xfrm flipH="1">
            <a:off x="761400" y="456840"/>
            <a:ext cx="76680" cy="305640"/>
          </a:xfrm>
          <a:prstGeom prst="straightConnector1">
            <a:avLst/>
          </a:prstGeom>
          <a:ln w="25560">
            <a:solidFill>
              <a:srgbClr val="000000"/>
            </a:solidFill>
            <a:miter/>
            <a:tailEnd len="med" type="arrow" w="med"/>
          </a:ln>
        </p:spPr>
      </p:cxnSp>
      <p:cxnSp>
        <p:nvCxnSpPr>
          <p:cNvPr id="439" name="Straight Arrow Connector 8"/>
          <p:cNvCxnSpPr/>
          <p:nvPr/>
        </p:nvCxnSpPr>
        <p:spPr>
          <a:xfrm>
            <a:off x="7924680" y="304920"/>
            <a:ext cx="610560" cy="91512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1" descr=""/>
          <p:cNvPicPr/>
          <p:nvPr/>
        </p:nvPicPr>
        <p:blipFill>
          <a:blip r:embed="rId1"/>
          <a:stretch/>
        </p:blipFill>
        <p:spPr>
          <a:xfrm>
            <a:off x="103320" y="450720"/>
            <a:ext cx="8967600" cy="1152720"/>
          </a:xfrm>
          <a:prstGeom prst="rect">
            <a:avLst/>
          </a:prstGeom>
          <a:ln w="0">
            <a:noFill/>
          </a:ln>
        </p:spPr>
      </p:pic>
      <p:sp>
        <p:nvSpPr>
          <p:cNvPr id="44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colony was established by an explorer who took 30 convicts with him to proclaim it a penal colony. There was only about 2,000 convicts sent to the colony. Then in 1838 the first free settlers came. In 1859 Queensland separated from New South Wales. This colony was first settled by Europeans in 1824 and separated from New South Wales in 1863.</a:t>
            </a:r>
            <a:endParaRPr b="0" lang="en-US" sz="3200" spc="-1" strike="noStrike">
              <a:solidFill>
                <a:srgbClr val="4e3b30"/>
              </a:solidFill>
              <a:latin typeface="Franklin Gothic Book"/>
            </a:endParaRPr>
          </a:p>
        </p:txBody>
      </p:sp>
      <p:pic>
        <p:nvPicPr>
          <p:cNvPr id="442" name="Picture 2" descr="http://members.iinet.net.au/~perthdps/convicts/ausqld.gif"/>
          <p:cNvPicPr/>
          <p:nvPr/>
        </p:nvPicPr>
        <p:blipFill>
          <a:blip r:embed="rId2"/>
          <a:stretch/>
        </p:blipFill>
        <p:spPr>
          <a:xfrm>
            <a:off x="685800" y="5595840"/>
            <a:ext cx="1371600" cy="1262160"/>
          </a:xfrm>
          <a:prstGeom prst="rect">
            <a:avLst/>
          </a:prstGeom>
          <a:ln w="0">
            <a:noFill/>
          </a:ln>
        </p:spPr>
      </p:pic>
      <p:pic>
        <p:nvPicPr>
          <p:cNvPr id="443" name="Picture 4" descr="http://members.iinet.net.au/~perthdps/convicts/ausnt.gif"/>
          <p:cNvPicPr/>
          <p:nvPr/>
        </p:nvPicPr>
        <p:blipFill>
          <a:blip r:embed="rId3"/>
          <a:stretch/>
        </p:blipFill>
        <p:spPr>
          <a:xfrm>
            <a:off x="6858000" y="5105520"/>
            <a:ext cx="1319040" cy="1212840"/>
          </a:xfrm>
          <a:prstGeom prst="rect">
            <a:avLst/>
          </a:prstGeom>
          <a:ln w="0">
            <a:noFill/>
          </a:ln>
        </p:spPr>
      </p:pic>
      <p:sp>
        <p:nvSpPr>
          <p:cNvPr id="444" name="TextBox 5"/>
          <p:cNvSpPr/>
          <p:nvPr/>
        </p:nvSpPr>
        <p:spPr>
          <a:xfrm>
            <a:off x="691200" y="5562720"/>
            <a:ext cx="9352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ensland</a:t>
            </a:r>
            <a:endParaRPr b="0" lang="en-US" sz="1100" spc="-1" strike="noStrike">
              <a:solidFill>
                <a:srgbClr val="000000"/>
              </a:solidFill>
              <a:latin typeface="Arial"/>
            </a:endParaRPr>
          </a:p>
        </p:txBody>
      </p:sp>
      <p:sp>
        <p:nvSpPr>
          <p:cNvPr id="445" name="TextBox 6"/>
          <p:cNvSpPr/>
          <p:nvPr/>
        </p:nvSpPr>
        <p:spPr>
          <a:xfrm>
            <a:off x="6784920" y="6400800"/>
            <a:ext cx="1288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rthern Territory</a:t>
            </a:r>
            <a:endParaRPr b="0" lang="en-US" sz="1100" spc="-1" strike="noStrike">
              <a:solidFill>
                <a:srgbClr val="000000"/>
              </a:solidFill>
              <a:latin typeface="Arial"/>
            </a:endParaRPr>
          </a:p>
        </p:txBody>
      </p:sp>
      <p:cxnSp>
        <p:nvCxnSpPr>
          <p:cNvPr id="446" name="Straight Arrow Connector 7"/>
          <p:cNvCxnSpPr>
            <a:stCxn id="444" idx="2"/>
          </p:cNvCxnSpPr>
          <p:nvPr/>
        </p:nvCxnSpPr>
        <p:spPr>
          <a:xfrm>
            <a:off x="1158840" y="5824440"/>
            <a:ext cx="518400" cy="272160"/>
          </a:xfrm>
          <a:prstGeom prst="straightConnector1">
            <a:avLst/>
          </a:prstGeom>
          <a:ln w="25560">
            <a:solidFill>
              <a:srgbClr val="000000"/>
            </a:solidFill>
            <a:miter/>
            <a:tailEnd len="med" type="arrow" w="med"/>
          </a:ln>
        </p:spPr>
      </p:cxnSp>
      <p:cxnSp>
        <p:nvCxnSpPr>
          <p:cNvPr id="447" name="Straight Arrow Connector 8"/>
          <p:cNvCxnSpPr>
            <a:stCxn id="445" idx="0"/>
          </p:cNvCxnSpPr>
          <p:nvPr/>
        </p:nvCxnSpPr>
        <p:spPr>
          <a:xfrm flipV="1">
            <a:off x="7428600" y="5637960"/>
            <a:ext cx="38520" cy="7628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1" descr=""/>
          <p:cNvPicPr/>
          <p:nvPr/>
        </p:nvPicPr>
        <p:blipFill>
          <a:blip r:embed="rId1"/>
          <a:stretch/>
        </p:blipFill>
        <p:spPr>
          <a:xfrm>
            <a:off x="103320" y="450720"/>
            <a:ext cx="8894520" cy="1152720"/>
          </a:xfrm>
          <a:prstGeom prst="rect">
            <a:avLst/>
          </a:prstGeom>
          <a:ln w="0">
            <a:noFill/>
          </a:ln>
        </p:spPr>
      </p:pic>
      <p:sp>
        <p:nvSpPr>
          <p:cNvPr id="449" name=""/>
          <p:cNvSpPr txBox="1"/>
          <p:nvPr/>
        </p:nvSpPr>
        <p:spPr>
          <a:xfrm>
            <a:off x="304920" y="1554120"/>
            <a:ext cx="8686800" cy="4525920"/>
          </a:xfrm>
          <a:prstGeom prst="rect">
            <a:avLst/>
          </a:prstGeom>
          <a:noFill/>
          <a:ln w="0">
            <a:noFill/>
          </a:ln>
        </p:spPr>
        <p:txBody>
          <a:bodyPr anchor="t">
            <a:normAutofit/>
          </a:bodyPr>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00’s shipment of convicts to America</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75 – 1783 American Revolution</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83 – 1787 British prisons and hulks were at maximum capacity</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87 Lord Sydney agreed for convicts to be shipped to Australia</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3/05/1787 First fleet, 11 ship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90 Second fleet</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91 Third fleet</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25 Van Diemen’s Land (Tasmania) separated from New South Wale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27 Western Australia was established</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36 South Australia was established</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41 New Zealand Separated from New South Wale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51 Victoria separated from New South Wale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59 Queensland separated from New South Wale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63 Northern Territory separated from New South Wale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13:00:47Z</dcterms:created>
  <dc:creator>Kent</dc:creator>
  <dc:description/>
  <dc:language>en-US</dc:language>
  <cp:lastModifiedBy>Kent</cp:lastModifiedBy>
  <dcterms:modified xsi:type="dcterms:W3CDTF">2010-04-18T16:58:46Z</dcterms:modified>
  <cp:revision>40</cp:revision>
  <dc:subject/>
  <dc:title>Slide 1</dc:title>
</cp:coreProperties>
</file>